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9A67D-0E3E-4341-AF5D-7947F8F1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13005-455D-4C3F-B2F1-CCC51ED1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F61CA-9894-4F03-B40F-78DCEC2D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D9B19-54F9-46F1-BDFF-2686D9B0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16232-E925-4FCB-B9CF-5B12E6A4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DDAD3-5E47-498E-A6D6-437C06DF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708DC-D4FF-4DD1-9DE9-DD37FAC1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AB506-620E-47E7-A7A1-6212770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99DD8-231B-4206-958F-A701ABD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458C9-6917-4058-AEBD-677B377A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0E2E9-58E7-4444-AAFA-D6F65F9E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84C76-F1C8-45F8-8490-646AA67F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C623C-AF78-4FCA-8BD5-1CAAFAC4BE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DA448-97F5-44FC-9E4F-7A872370FE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2FE99-0420-4097-AE10-071F240F69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C2B61-52D2-4AEE-9C4F-969651979E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FC24-CED6-4954-A3BB-1E0908D465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8FCC7-A4A3-4CC9-966C-33A8BC41C2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1CFF8-51CB-44C0-A62D-C8D053B0AA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132E7-9A2F-476D-B2E3-8830720D5A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D6BD2-3A97-4A0B-9832-258A9E53C9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C9128-603E-40E9-A3DB-DA02B4A04F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5EFCE-D591-405E-BD87-CBA5D88A47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6B17D-64BF-483B-AE4B-228F9068C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7DD8-9DF6-46B7-BC4E-EBEFC284A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fld id="{989822DC-4F58-482C-B179-642FA58F71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3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i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more references that refer to the same object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i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creates an interesting situation: one object can be accessed using multiple referenc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ases can be useful, but should be managed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n object through one reference changes it for all of its aliases, because there is really only on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 no longer has any valid references to it, it can no longer be accessed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is useless, and therefor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perform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ically, returning an object's memory to the system for futur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languages, the programmer is responsible for perform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1828800" y="2103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strings are so common, we don't have to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to creat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tle = "Java Software Solutions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special syntax that work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ring literal (enclosed in double quotes) represent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has been created, neither its value nor its length can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we say that an objec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m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everal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return ne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that are modified versions of the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ing Inde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ccasionally helpful to refer to a particular character within a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done by specifying the character's numer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exes begin at zero in each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"Hello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index 0 an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o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index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Mutation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609480" y="38268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tringMutation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String class and its metho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Mu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ints a string and various mutations of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phrase = "Change is inevitable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mutation1, mutation2, mutation3, mutation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Original string: \"" + phrase + "\"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Length of string: " + phrase.length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1 = phrase.concat (", except from vending machines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2 = mutation1.toUpperC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3 = mutation2.replace ('E', 'X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4 = mutation3.substring (3, 3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609480" y="1620720"/>
            <a:ext cx="7910640" cy="26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each mutated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1: " + mutation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2: " + mutation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3: " + mutation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4: " + mutation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ed length: " + mutation4.length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609480" y="1620720"/>
            <a:ext cx="7910640" cy="261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each mutated st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1: " + mutation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2: " + mutation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3: " + mutation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ion #4: " + mutation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Mutated length: " + mutation4.length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470520" y="752400"/>
            <a:ext cx="8169480" cy="249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string: "Change is inevitabl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of string: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 #1: Change is inevitable, except from vending machi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 #2: CHANGE IS INEVITABLE, EXCEPT FROM VENDING MACHI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 #3: CHANGX IS INXVITABLX, XXCXPT FROM VXNDING MACHINX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ion #4: NGX IS INXVITABLX, XXCXPT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utated length: 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tput is produced by the follow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649800" y="198108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 = "Space, the final frontier.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length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substring(7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toUpperCas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length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create more interesting programs using predefined classes and relat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 focuse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creation and object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 and its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ava API class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 components and contai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s and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304920" y="120636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tput is produced by the follow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649800" y="1981080"/>
            <a:ext cx="786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tr = "Space, the final frontier.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length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substring(7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toUpperCase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str.length(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930320" y="4267080"/>
            <a:ext cx="5121360" cy="1737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final front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CE, THE FINAL FRONT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828800" y="26431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 libr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classes that we can use when develop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va standard class libr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art of any Java developmen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classes are not part of the Java language per se, but we rely on them heav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classes we've already used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part of the Java standard class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ava 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class library is sometimes referred to as the Java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 stands for Application Programming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sters of related classes are sometimes referred to as specific AP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ing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bas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Java AP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comfortable navigating the online Java API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Figure3.3 AND FigureM.1.JPG"/>
          <p:cNvPicPr/>
          <p:nvPr/>
        </p:nvPicPr>
        <p:blipFill>
          <a:blip r:embed="rId1"/>
          <a:stretch/>
        </p:blipFill>
        <p:spPr>
          <a:xfrm>
            <a:off x="1673280" y="2133720"/>
            <a:ext cx="5413320" cy="428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urposes of accessing them, classes in the Java API are organized in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often overlap with specifi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220760" y="3429000"/>
            <a:ext cx="7396920" cy="2756880"/>
            <a:chOff x="1220760" y="3429000"/>
            <a:chExt cx="7396920" cy="2756880"/>
          </a:xfrm>
        </p:grpSpPr>
        <p:sp>
          <p:nvSpPr>
            <p:cNvPr id="251" name="Text Box 5"/>
            <p:cNvSpPr/>
            <p:nvPr/>
          </p:nvSpPr>
          <p:spPr>
            <a:xfrm>
              <a:off x="1220760" y="3429000"/>
              <a:ext cx="243180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Pack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.la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.appl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.aw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x.s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.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.ut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javax.xml.pars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6"/>
            <p:cNvSpPr/>
            <p:nvPr/>
          </p:nvSpPr>
          <p:spPr>
            <a:xfrm>
              <a:off x="3528000" y="3430440"/>
              <a:ext cx="5089680" cy="27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8000"/>
                  </a:solidFill>
                  <a:uFillTx/>
                  <a:latin typeface="Arial Unicode MS"/>
                </a:rPr>
                <a:t>Purp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General sup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Creating applets for the we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Graphics and graphical user interfa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Additional graphics 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Network commun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Ut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XML document 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Footer Placeholder 7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port Decla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want to use a class from a package, you could use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lly qualified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Sc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you c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lass, and then use just the clas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java.util.Scann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ort all classes in a particular package, you can use the * wildcard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port Decla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lasse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 are imported automatically into al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s if all programs contain the following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ort java.lang.*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's why we didn't have to imp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es explicitly in earli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, on the other hand,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, and therefore must be im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andom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rovides methods that generate pseudorando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performs complicated calculations based o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ed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roduce a stream of seemingly random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Number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5"/>
          <p:cNvSpPr/>
          <p:nvPr/>
        </p:nvSpPr>
        <p:spPr>
          <a:xfrm>
            <a:off x="609480" y="38268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ndomNumber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creation of pseudo-random numbers using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ndom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Rand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Generates random numbers in various ran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 generator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loa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random integer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0 to 9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828800" y="15256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10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1 to 10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15) + 2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20 to 34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20) -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-10 to 9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generator.nextFloa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random float (between 0-1): " + num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generator.nextFloat() * 6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.0 to 5.999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num2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1 to 6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609480" y="96372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10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1 to 10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15) + 2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20 to 34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generator.nextInt(20) - 1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-10 to 9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generator.nextFloa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A random float (between 0-1): " + num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2 = generator.nextFloat() * 6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0.0 to 5.999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1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num2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From 1 to 6: " + num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1893960" y="752400"/>
            <a:ext cx="5243400" cy="249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 random integer: 6729816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0 to 9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1 to 10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20 to 34: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-10 to 9: 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 random float (between 0-1): 0.185383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1 to 6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at range of values are produced by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859320" y="2655720"/>
            <a:ext cx="40212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6)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00)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50) +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0) –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22)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at range of values are produced by the following expres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859320" y="2655720"/>
            <a:ext cx="40212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6)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00)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50) +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0) –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22)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"/>
          <p:cNvSpPr/>
          <p:nvPr/>
        </p:nvSpPr>
        <p:spPr>
          <a:xfrm>
            <a:off x="5599080" y="2209680"/>
            <a:ext cx="2009520" cy="34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 to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to 1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 to 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5 to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2 to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expression that produces a random integer in the following ra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1623600" y="2362320"/>
            <a:ext cx="16437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 to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5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10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304920" y="1066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expression that produces a random integer in the following ra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3761640" y="2805120"/>
            <a:ext cx="38383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20)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6) +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en.nextInt(11)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6"/>
          <p:cNvSpPr/>
          <p:nvPr/>
        </p:nvSpPr>
        <p:spPr>
          <a:xfrm>
            <a:off x="1623600" y="2362320"/>
            <a:ext cx="164376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 to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5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10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methods that perform various mathematic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onometr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methods are invoked through the class name – no objec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= Math.cos(90) + Math.sqrt(del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scuss static methods further in Chap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Quadratic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"/>
          <p:cNvSpPr/>
          <p:nvPr/>
        </p:nvSpPr>
        <p:spPr>
          <a:xfrm>
            <a:off x="609480" y="68580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Quadratic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Math class to perform a 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ased on user inp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adr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termines the roots of a quadratic equ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x^2 + bx +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riminant, root1, root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oefficient of x squared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609480" y="6858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oefficient of x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onstant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the quadratic formula to compute the roo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umes a positive discrimin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riminant = Math.pow(b, 2) - (4 * a *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1 = ((-1 * b) + Math.sqrt(discriminant)) / (2 *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2 = ((-1 * b) - Math.sqrt(discriminant)) / (2 *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ot #1: " + root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ot #2: " + root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holds either a primitive value or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name can be used as a type to declar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ject referenc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 tit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bject is created with this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reference variable holds the address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itself must be created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609480" y="685800"/>
            <a:ext cx="7910640" cy="43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oefficient of x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onstant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 the quadratic formula to compute the roo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umes a positive discrimina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riminant = Math.pow(b, 2) - (4 * a *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1 = ((-1 * b) + Math.sqrt(discriminant)) / (2 *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2 = ((-1 * b) - Math.sqrt(discriminant)) / (2 *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ot #1: " + root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Root #2: " + root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2109240" y="457200"/>
            <a:ext cx="4877640" cy="200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coefficient of x squared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coefficient of x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constant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 #1: -0.66666666666666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 #2: -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18288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ften necessary to format output values in certain ways so that they can be presente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standard class library contains classes that provide formatt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llows you to format values as currency or perce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allows you to format values based on a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re part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ber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has static methods that return a formatte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CurrencyInstanc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PercentInstanc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ormatter object has a method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returns a string with the specified information in the appropriat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rchas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609480" y="68580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urchas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he NumberFormat class to format outp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alculates the final price of a purchased item using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entered by the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final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X_RATE = 0.06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6% sales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total, tax, totalCost, unitPri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"/>
          <p:cNvSpPr/>
          <p:nvPr/>
        </p:nvSpPr>
        <p:spPr>
          <a:xfrm>
            <a:off x="609480" y="92700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1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2 = NumberFormat.getPercent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quantity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unit price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tPrice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total = quantity * unitPri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x = subtotal * TAX_R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Cost = subtotal + ta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utput with appropriate forma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ubtotal: " + fmt1.format(subtotal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ax: " + fmt1.format(tax) + " at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fmt2.format(TAX_RAT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otal: " + fmt1.format(totalCost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609480" y="92700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1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2 = NumberFormat.getPercent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quantity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quantity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unit price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tPrice = scan.nextDoubl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total = quantity * unitPri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x = subtotal * TAX_R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Cost = subtotal + ta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utput with appropriate forma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ubtotal: " + fmt1.format(subtotal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ax: " + fmt1.format(tax) + " at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fmt2.format(TAX_RAT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otal: " + fmt1.format(totalCost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2912400" y="685800"/>
            <a:ext cx="3536640" cy="200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quantity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unit price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3.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total: $19.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ax: $1.16 at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: $20.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an be used to format a floating point value in various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you can specify that the number should be truncated to three decimal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ructor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cimalFor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takes a string that represents a pattern for the formatte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Stat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ircleStat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formatting of decimal values using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cimalFormat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Scan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Decimal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St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alculates the area and circumference of a circle given 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adi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, circumfere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sca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ner (System.i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609480" y="10000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ircle's radiu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= Math.PI * Math.pow(radius, 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= 2 * Math.PI * radi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und the output to three decimal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#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circle's area: " + fmt.format(area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circle's circumference: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fmt.format(circumferenc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we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rator to create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n objec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particula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64280" y="373392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tle = new String ("Java Software Solutions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565720" y="4800600"/>
            <a:ext cx="529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This calls the String </a:t>
            </a:r>
            <a:r>
              <a:rPr b="1" i="1" lang="en-US" sz="2000" spc="-1" strike="noStrike">
                <a:solidFill>
                  <a:srgbClr val="008000"/>
                </a:solidFill>
                <a:latin typeface="Arial Unicode MS"/>
              </a:rPr>
              <a:t>constructor</a:t>
            </a: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,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a special method that sets up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 rot="16200000">
            <a:off x="5029200" y="1905120"/>
            <a:ext cx="457200" cy="50292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609480" y="100008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 ("Enter the circle's radiu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us = scan.nextIn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rea = Math.PI * Math.pow(radius, 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umference = 2 * Math.PI * radi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und the output to three decimal pl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fm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imalFormat ("0.###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circle's area: " + fmt.format(area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The circle's circumference: 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+ fmt.format(circumferenc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2384280" y="609480"/>
            <a:ext cx="4511880" cy="152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circle's radius: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ircle's area: 78.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circle's circumference: 31.4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4"/>
          <p:cNvSpPr/>
          <p:nvPr/>
        </p:nvSpPr>
        <p:spPr>
          <a:xfrm>
            <a:off x="1828800" y="37242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allows you to defin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umerated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an then be used to declar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umerated type declaration lists all possible values for a variable of tha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are identifiers of your own cho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eclaration creates an enumerated type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um Season {winter, spring, summer, fall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values can be l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type is defined, a variable of that type can be decla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ason ti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t can be assigned a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me = Season.f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are referenced through the name of th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erated type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e-sa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you cannot assign any value other than those li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inal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ly, each value of an enumerated type is stored as an integer,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din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value in an enumerated type has an ordinal value of zero, the second one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you cannot assign a numeric value to an enumerated type, even if it corresponds to a valid ordin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laration of an enumerated type is a special type of class, and each variable of that type is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d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the ordinal value of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the name of the identifier corresponding to the object's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ceCream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609480" y="38088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IceCream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enumerated typ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ceC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num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avor {vanilla, chocolate, strawberry, fudgeRipple, coffe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ckyRoad, mintChocolateChip, cookieDough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uses variables of the Flavor ty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avor cone1, cone2, cone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1 = Flavor.rockyRoa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2 = Flavor.chocola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1 value: " + cone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1 ordinal: " + cone1.ordin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1 name: " + cone1.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609480" y="12160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value: " + con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ordinal: " + cone2.ordin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name: " + cone2.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3 = cone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value: " + cone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ordinal: " + cone3.ordin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name: " + cone3.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"/>
          <p:cNvSpPr/>
          <p:nvPr/>
        </p:nvSpPr>
        <p:spPr>
          <a:xfrm>
            <a:off x="609480" y="121608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value: " + con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ordinal: " + cone2.ordin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2 name: " + cone2.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3 = cone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value: " + cone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ordinal: " + cone3.ordina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cone3 name: " + cone3.name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"/>
          <p:cNvSpPr/>
          <p:nvPr/>
        </p:nvSpPr>
        <p:spPr>
          <a:xfrm>
            <a:off x="2986200" y="914400"/>
            <a:ext cx="3048840" cy="298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1 value: rocky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1 ordinal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1 name: rocky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2 value: choc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2 ordinal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2 name: choc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3 value: rocky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3 ordinal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e3 name: rockyR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/>
          <p:cNvSpPr/>
          <p:nvPr/>
        </p:nvSpPr>
        <p:spPr>
          <a:xfrm>
            <a:off x="1828800" y="427680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king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ve seen that once an object has been instantiated, we can us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t oper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voke it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Chars = title.length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m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 a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can be used in an assignment or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invocation can be thought of as asking an object to perform a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0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l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 contai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apper cla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orrespond to each primitive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057400" y="2209680"/>
          <a:ext cx="4711680" cy="4114800"/>
        </p:xfrm>
        <a:graphic>
          <a:graphicData uri="http://schemas.openxmlformats.org/drawingml/2006/table">
            <a:tbl>
              <a:tblPr/>
              <a:tblGrid>
                <a:gridCol w="2395440"/>
                <a:gridCol w="2316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</a:rPr>
                        <a:t>Primitiv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</a:rPr>
                        <a:t>Wrapper 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y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Dou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ol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Bool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eclaration create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which represents the integer 40 as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 age = new Integer(4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of a wrapper class can be used in any situation where a primitive value will not su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some objects serve as containers of othe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e values could not be stored in such containers, but wrapper objects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classes also contain static methods that help manage the associated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a method to convert an integer stored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m = Integer.parseInt(st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often contain useful constant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IN_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X_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hold the smallest and larg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box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box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utomatic conversion of a primitive value to a corresponding wrapper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 ob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num = 4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bj = n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creates the appropria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verse conversion (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box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lso occurs automatically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following assignments valid?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489960" y="1981080"/>
            <a:ext cx="639864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value = 15.7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 ch = new Character('T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myChar = 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30492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following assignments valid?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489960" y="1981080"/>
            <a:ext cx="639864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value = 15.7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acter ch = new Character('T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myChar = 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447840" y="2590920"/>
            <a:ext cx="844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Yes. The double literal is autoboxed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Yes, the char in the object is unboxed before the assig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1828800" y="483084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al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for the applets seen in Chapter 2, the example programs we've explored thus far have been text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mand-line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nteract with the user using simple text 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examine some Java applications that have graphic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mponents will serve as a foundation to programs that have true graphical user interfaces (GU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UI 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 that represents a screen element such as a button or a tex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-related classes are defined primarily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aw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x.sw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stract Windowing Toolk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WT) was the original Java GUI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w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kage provides additional and more versatil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ackages are needed to create a Java GUI-base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Contai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UI contai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mponent that is used to hold and organize othe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ontainer displayed as a separate window with a title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repositioned and resized on the screen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tainer that cannot be displayed on its own but is used to organize othe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nel must be added to another container (like a frame or another panel) to be dis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 primitive variable contains the value itself, but an object variable contains the address of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reference can be thought of as a pointer to the location of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dealing with arbitrary addresses, we often depict a reference graph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5"/>
          <p:cNvGrpSpPr/>
          <p:nvPr/>
        </p:nvGrpSpPr>
        <p:grpSpPr>
          <a:xfrm>
            <a:off x="2211120" y="4952880"/>
            <a:ext cx="4570560" cy="1053000"/>
            <a:chOff x="2211120" y="4952880"/>
            <a:chExt cx="4570560" cy="1053000"/>
          </a:xfrm>
        </p:grpSpPr>
        <p:sp>
          <p:nvSpPr>
            <p:cNvPr id="147" name="Rectangle 13"/>
            <p:cNvSpPr/>
            <p:nvPr/>
          </p:nvSpPr>
          <p:spPr>
            <a:xfrm>
              <a:off x="3200040" y="554688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7"/>
            <p:cNvSpPr/>
            <p:nvPr/>
          </p:nvSpPr>
          <p:spPr>
            <a:xfrm>
              <a:off x="4571640" y="5546880"/>
              <a:ext cx="2210040" cy="38088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Jobs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9"/>
            <p:cNvSpPr/>
            <p:nvPr/>
          </p:nvSpPr>
          <p:spPr>
            <a:xfrm>
              <a:off x="2211120" y="56070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0"/>
            <p:cNvSpPr/>
            <p:nvPr/>
          </p:nvSpPr>
          <p:spPr>
            <a:xfrm>
              <a:off x="3200040" y="495288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1"/>
            <p:cNvSpPr/>
            <p:nvPr/>
          </p:nvSpPr>
          <p:spPr>
            <a:xfrm>
              <a:off x="2332080" y="50133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2"/>
            <p:cNvSpPr/>
            <p:nvPr/>
          </p:nvSpPr>
          <p:spPr>
            <a:xfrm>
              <a:off x="3277800" y="49528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3504960" y="57150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Footer Placeholder 12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Contai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UI container can be classified as either heavyweight or light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eavyweight contai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ne that is managed by the underlying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naged by the Java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asionally this distinction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ame is a heavyweight container and a panel is a lightweight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UI component that displays a line of text and/or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 are usually used to display information or identify other components in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a program that organizes two labels in a panel and displays that panel in a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gram is not interactive, but the frame can be repositioned and res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ity.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609480" y="6415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uthority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frames, panels, and lab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splays some words of wisd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Authority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rimar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setBackground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setPreferredSize (new Dimension(250, 75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609480" y="121608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Question authority,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but raise your hand first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lab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rima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609480" y="1216080"/>
            <a:ext cx="7910640" cy="30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Question authority,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but raise your hand first.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lab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rima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2743200" y="914400"/>
            <a:ext cx="3886200" cy="1676520"/>
            <a:chOff x="2743200" y="914400"/>
            <a:chExt cx="3886200" cy="1676520"/>
          </a:xfrm>
        </p:grpSpPr>
        <p:sp>
          <p:nvSpPr>
            <p:cNvPr id="402" name="TextBox 4"/>
            <p:cNvSpPr/>
            <p:nvPr/>
          </p:nvSpPr>
          <p:spPr>
            <a:xfrm>
              <a:off x="2743200" y="914400"/>
              <a:ext cx="3886200" cy="167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6" descr="Authority1.png"/>
            <p:cNvPicPr/>
            <p:nvPr/>
          </p:nvPicPr>
          <p:blipFill>
            <a:blip r:embed="rId1"/>
            <a:stretch/>
          </p:blipFill>
          <p:spPr>
            <a:xfrm>
              <a:off x="3038760" y="1170000"/>
              <a:ext cx="3289320" cy="11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4" name="Group 12"/>
          <p:cNvGrpSpPr/>
          <p:nvPr/>
        </p:nvGrpSpPr>
        <p:grpSpPr>
          <a:xfrm>
            <a:off x="2286000" y="3124080"/>
            <a:ext cx="4876920" cy="1676520"/>
            <a:chOff x="2286000" y="3124080"/>
            <a:chExt cx="4876920" cy="1676520"/>
          </a:xfrm>
        </p:grpSpPr>
        <p:sp>
          <p:nvSpPr>
            <p:cNvPr id="405" name="TextBox 9"/>
            <p:cNvSpPr/>
            <p:nvPr/>
          </p:nvSpPr>
          <p:spPr>
            <a:xfrm>
              <a:off x="2286000" y="3124080"/>
              <a:ext cx="4876920" cy="1676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6" name="Picture 11" descr="Authority2.png"/>
            <p:cNvPicPr/>
            <p:nvPr/>
          </p:nvPicPr>
          <p:blipFill>
            <a:blip r:embed="rId2"/>
            <a:stretch/>
          </p:blipFill>
          <p:spPr>
            <a:xfrm>
              <a:off x="2483640" y="3416040"/>
              <a:ext cx="4470840" cy="1155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sted Pa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s that contain other components make up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ainment hierarc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ierarchy can be as intricate as needed to create the visual effect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example nests two panels inside a third panel – note the effect this has as the frame is res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estedPanel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609480" y="30492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estedPanel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basic componenet hierarc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stedPa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esents two colored panels nested within a thi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Nested Panels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up first sub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subPane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1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150, 1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1.setBackground (Color.gree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On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1.add (lab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609480" y="106668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up second sub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subPan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150, 1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setBackground (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Tw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up primary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rimar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setBackground (Color.b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subPan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subPan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rima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609480" y="1066680"/>
            <a:ext cx="79106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up second sub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subPan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150, 1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setBackground (Color.r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Tw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bPanel2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up primary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rimary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setBackground (Color.b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subPan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ary.add (subPan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rimary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7"/>
          <p:cNvGrpSpPr/>
          <p:nvPr/>
        </p:nvGrpSpPr>
        <p:grpSpPr>
          <a:xfrm>
            <a:off x="2514600" y="380880"/>
            <a:ext cx="4343400" cy="2042280"/>
            <a:chOff x="2514600" y="380880"/>
            <a:chExt cx="4343400" cy="2042280"/>
          </a:xfrm>
        </p:grpSpPr>
        <p:sp>
          <p:nvSpPr>
            <p:cNvPr id="417" name="TextBox 4"/>
            <p:cNvSpPr/>
            <p:nvPr/>
          </p:nvSpPr>
          <p:spPr>
            <a:xfrm>
              <a:off x="2514600" y="380880"/>
              <a:ext cx="4343400" cy="204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Picture 6" descr="NestedPanels1.png"/>
            <p:cNvPicPr/>
            <p:nvPr/>
          </p:nvPicPr>
          <p:blipFill>
            <a:blip r:embed="rId1"/>
            <a:stretch/>
          </p:blipFill>
          <p:spPr>
            <a:xfrm>
              <a:off x="2712240" y="588960"/>
              <a:ext cx="3975120" cy="166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Group 12"/>
          <p:cNvGrpSpPr/>
          <p:nvPr/>
        </p:nvGrpSpPr>
        <p:grpSpPr>
          <a:xfrm>
            <a:off x="2641680" y="2854440"/>
            <a:ext cx="4114800" cy="3505320"/>
            <a:chOff x="2641680" y="2854440"/>
            <a:chExt cx="4114800" cy="3505320"/>
          </a:xfrm>
        </p:grpSpPr>
        <p:sp>
          <p:nvSpPr>
            <p:cNvPr id="420" name="TextBox 9"/>
            <p:cNvSpPr/>
            <p:nvPr/>
          </p:nvSpPr>
          <p:spPr>
            <a:xfrm>
              <a:off x="2641680" y="2854440"/>
              <a:ext cx="4114800" cy="3505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Picture 11" descr="NestedPanels2.png"/>
            <p:cNvPicPr/>
            <p:nvPr/>
          </p:nvPicPr>
          <p:blipFill>
            <a:blip r:embed="rId2"/>
            <a:stretch/>
          </p:blipFill>
          <p:spPr>
            <a:xfrm>
              <a:off x="2900520" y="3026880"/>
              <a:ext cx="3606840" cy="3226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691720" y="1447920"/>
            <a:ext cx="4684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ing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and Math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4"/>
          <p:cNvSpPr/>
          <p:nvPr/>
        </p:nvSpPr>
        <p:spPr>
          <a:xfrm>
            <a:off x="1828800" y="53895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 Revis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7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assignment takes a copy of a value and stores it in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rimitive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6"/>
          <p:cNvGrpSpPr/>
          <p:nvPr/>
        </p:nvGrpSpPr>
        <p:grpSpPr>
          <a:xfrm>
            <a:off x="3125880" y="2971800"/>
            <a:ext cx="3078000" cy="992880"/>
            <a:chOff x="3125880" y="2971800"/>
            <a:chExt cx="3078000" cy="992880"/>
          </a:xfrm>
        </p:grpSpPr>
        <p:sp>
          <p:nvSpPr>
            <p:cNvPr id="158" name="Rectangle 20"/>
            <p:cNvSpPr/>
            <p:nvPr/>
          </p:nvSpPr>
          <p:spPr>
            <a:xfrm>
              <a:off x="5518080" y="297180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4649760" y="30322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2"/>
            <p:cNvSpPr/>
            <p:nvPr/>
          </p:nvSpPr>
          <p:spPr>
            <a:xfrm>
              <a:off x="5595840" y="29718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>
              <a:off x="5518080" y="35053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5"/>
            <p:cNvSpPr/>
            <p:nvPr/>
          </p:nvSpPr>
          <p:spPr>
            <a:xfrm>
              <a:off x="4649760" y="3565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6"/>
            <p:cNvSpPr/>
            <p:nvPr/>
          </p:nvSpPr>
          <p:spPr>
            <a:xfrm>
              <a:off x="5595840" y="35053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7"/>
            <p:cNvSpPr/>
            <p:nvPr/>
          </p:nvSpPr>
          <p:spPr>
            <a:xfrm>
              <a:off x="3125880" y="326088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Befor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28"/>
          <p:cNvSpPr/>
          <p:nvPr/>
        </p:nvSpPr>
        <p:spPr>
          <a:xfrm>
            <a:off x="1602000" y="42670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2 = num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37"/>
          <p:cNvGrpSpPr/>
          <p:nvPr/>
        </p:nvGrpSpPr>
        <p:grpSpPr>
          <a:xfrm>
            <a:off x="3125160" y="5029200"/>
            <a:ext cx="3078720" cy="992880"/>
            <a:chOff x="3125160" y="5029200"/>
            <a:chExt cx="3078720" cy="992880"/>
          </a:xfrm>
        </p:grpSpPr>
        <p:sp>
          <p:nvSpPr>
            <p:cNvPr id="167" name="Rectangle 29"/>
            <p:cNvSpPr/>
            <p:nvPr/>
          </p:nvSpPr>
          <p:spPr>
            <a:xfrm>
              <a:off x="5518080" y="502920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0"/>
            <p:cNvSpPr/>
            <p:nvPr/>
          </p:nvSpPr>
          <p:spPr>
            <a:xfrm>
              <a:off x="4649760" y="5089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1"/>
            <p:cNvSpPr/>
            <p:nvPr/>
          </p:nvSpPr>
          <p:spPr>
            <a:xfrm>
              <a:off x="5595480" y="50292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2"/>
            <p:cNvSpPr/>
            <p:nvPr/>
          </p:nvSpPr>
          <p:spPr>
            <a:xfrm>
              <a:off x="5518080" y="556272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3"/>
            <p:cNvSpPr/>
            <p:nvPr/>
          </p:nvSpPr>
          <p:spPr>
            <a:xfrm>
              <a:off x="4649760" y="5623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4"/>
            <p:cNvSpPr/>
            <p:nvPr/>
          </p:nvSpPr>
          <p:spPr>
            <a:xfrm>
              <a:off x="5595480" y="5562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5"/>
            <p:cNvSpPr/>
            <p:nvPr/>
          </p:nvSpPr>
          <p:spPr>
            <a:xfrm>
              <a:off x="3125160" y="53182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Aft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ooter Placeholder 2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s can be displayed in a Java program in various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've seen,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can be used to display a line of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also be used to display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a label can be composed of text, an image, or both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ageIc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used to represent the image that is stored in a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ext is also included, the position of the text relative to the image can be set ex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ignment of the text and image within the label can be set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Demo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609480" y="53352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LabelDemo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image icons in lab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primary application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Label Demo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icon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Icon ("devil.gif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1, label2, label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Devil Left", icon, 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"/>
          <p:cNvSpPr/>
          <p:nvPr/>
        </p:nvSpPr>
        <p:spPr>
          <a:xfrm>
            <a:off x="609480" y="838080"/>
            <a:ext cx="807732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Devil Right", icon, 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HorizontalTextPosition (SwingConstants.LEF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VerticalTextPosition (SwingConstants.BOTTO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Devil Above", icon, 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.setHorizontalTextPosition (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.setVerticalTextPosition (SwingConstants.BOTTO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200, 25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609480" y="838080"/>
            <a:ext cx="807732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Devil Right", icon, 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HorizontalTextPosition (SwingConstants.LEF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2.setVerticalTextPosition (SwingConstants.BOTTO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Devil Above", icon, 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.setHorizontalTextPosition (SwingConstants.CEN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3.setVerticalTextPosition (SwingConstants.BOTTO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 (200, 25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nel.add (label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tr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5"/>
          <p:cNvGrpSpPr/>
          <p:nvPr/>
        </p:nvGrpSpPr>
        <p:grpSpPr>
          <a:xfrm>
            <a:off x="2971800" y="609480"/>
            <a:ext cx="3149640" cy="3871080"/>
            <a:chOff x="2971800" y="609480"/>
            <a:chExt cx="3149640" cy="3871080"/>
          </a:xfrm>
        </p:grpSpPr>
        <p:sp>
          <p:nvSpPr>
            <p:cNvPr id="439" name="TextBox 12"/>
            <p:cNvSpPr/>
            <p:nvPr/>
          </p:nvSpPr>
          <p:spPr>
            <a:xfrm>
              <a:off x="2971800" y="609480"/>
              <a:ext cx="3149640" cy="3871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14" descr="LabelDemo.png"/>
            <p:cNvPicPr/>
            <p:nvPr/>
          </p:nvPicPr>
          <p:blipFill>
            <a:blip r:embed="rId1"/>
            <a:stretch/>
          </p:blipFill>
          <p:spPr>
            <a:xfrm>
              <a:off x="3276360" y="858240"/>
              <a:ext cx="2514960" cy="34542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creation and object 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 and its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ava standard clas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ting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erate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components and co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s and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bject references, assignment copies the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9880" y="38098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2 = name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2"/>
          <p:cNvGrpSpPr/>
          <p:nvPr/>
        </p:nvGrpSpPr>
        <p:grpSpPr>
          <a:xfrm>
            <a:off x="1906920" y="2514600"/>
            <a:ext cx="6170400" cy="992520"/>
            <a:chOff x="1906920" y="2514600"/>
            <a:chExt cx="6170400" cy="992520"/>
          </a:xfrm>
        </p:grpSpPr>
        <p:sp>
          <p:nvSpPr>
            <p:cNvPr id="179" name="Rectangle 40"/>
            <p:cNvSpPr/>
            <p:nvPr/>
          </p:nvSpPr>
          <p:spPr>
            <a:xfrm>
              <a:off x="4419720" y="251460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1"/>
            <p:cNvSpPr/>
            <p:nvPr/>
          </p:nvSpPr>
          <p:spPr>
            <a:xfrm>
              <a:off x="3430800" y="25747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4"/>
            <p:cNvSpPr/>
            <p:nvPr/>
          </p:nvSpPr>
          <p:spPr>
            <a:xfrm>
              <a:off x="3430800" y="31082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6"/>
            <p:cNvSpPr/>
            <p:nvPr/>
          </p:nvSpPr>
          <p:spPr>
            <a:xfrm>
              <a:off x="1906920" y="280332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Befor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57"/>
            <p:cNvSpPr/>
            <p:nvPr/>
          </p:nvSpPr>
          <p:spPr>
            <a:xfrm>
              <a:off x="5486400" y="2514600"/>
              <a:ext cx="2210040" cy="38088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Jobs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62"/>
            <p:cNvSpPr/>
            <p:nvPr/>
          </p:nvSpPr>
          <p:spPr>
            <a:xfrm>
              <a:off x="4724640" y="27050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3"/>
            <p:cNvSpPr/>
            <p:nvPr/>
          </p:nvSpPr>
          <p:spPr>
            <a:xfrm>
              <a:off x="4419720" y="304776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64"/>
            <p:cNvSpPr/>
            <p:nvPr/>
          </p:nvSpPr>
          <p:spPr>
            <a:xfrm>
              <a:off x="5486400" y="3047760"/>
              <a:ext cx="2590920" cy="38124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Wozniak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65"/>
            <p:cNvSpPr/>
            <p:nvPr/>
          </p:nvSpPr>
          <p:spPr>
            <a:xfrm>
              <a:off x="4724640" y="3238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73"/>
          <p:cNvGrpSpPr/>
          <p:nvPr/>
        </p:nvGrpSpPr>
        <p:grpSpPr>
          <a:xfrm>
            <a:off x="1906200" y="4724280"/>
            <a:ext cx="5637600" cy="1000440"/>
            <a:chOff x="1906200" y="4724280"/>
            <a:chExt cx="5637600" cy="1000440"/>
          </a:xfrm>
        </p:grpSpPr>
        <p:sp>
          <p:nvSpPr>
            <p:cNvPr id="189" name="Rectangle 48"/>
            <p:cNvSpPr/>
            <p:nvPr/>
          </p:nvSpPr>
          <p:spPr>
            <a:xfrm>
              <a:off x="4419720" y="4724280"/>
              <a:ext cx="68580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9"/>
            <p:cNvSpPr/>
            <p:nvPr/>
          </p:nvSpPr>
          <p:spPr>
            <a:xfrm>
              <a:off x="3430440" y="47923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1"/>
            <p:cNvSpPr/>
            <p:nvPr/>
          </p:nvSpPr>
          <p:spPr>
            <a:xfrm>
              <a:off x="4419720" y="5265360"/>
              <a:ext cx="68580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52"/>
            <p:cNvSpPr/>
            <p:nvPr/>
          </p:nvSpPr>
          <p:spPr>
            <a:xfrm>
              <a:off x="3430440" y="53258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ame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4"/>
            <p:cNvSpPr/>
            <p:nvPr/>
          </p:nvSpPr>
          <p:spPr>
            <a:xfrm>
              <a:off x="1906200" y="502092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Aft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66"/>
            <p:cNvSpPr/>
            <p:nvPr/>
          </p:nvSpPr>
          <p:spPr>
            <a:xfrm>
              <a:off x="5410080" y="4724280"/>
              <a:ext cx="2133720" cy="38088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"Steve Jobs"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7"/>
            <p:cNvSpPr/>
            <p:nvPr/>
          </p:nvSpPr>
          <p:spPr>
            <a:xfrm>
              <a:off x="4648320" y="4914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68"/>
            <p:cNvSpPr/>
            <p:nvPr/>
          </p:nvSpPr>
          <p:spPr>
            <a:xfrm flipV="1">
              <a:off x="5257800" y="517356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69"/>
            <p:cNvSpPr/>
            <p:nvPr/>
          </p:nvSpPr>
          <p:spPr>
            <a:xfrm flipH="1">
              <a:off x="4647960" y="54781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Footer Placeholder 2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9:25:23Z</dcterms:created>
  <dc:creator>usnidem</dc:creator>
  <dc:description/>
  <dc:language>en-US</dc:language>
  <cp:lastModifiedBy>Noreen Elliott</cp:lastModifiedBy>
  <dcterms:modified xsi:type="dcterms:W3CDTF">2013-08-12T20:17:19Z</dcterms:modified>
  <cp:revision>18</cp:revision>
  <dc:subject/>
  <dc:title>Chapter #, Title</dc:title>
</cp:coreProperties>
</file>